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DF86F5-E81D-4D71-AD9C-5DDD26F2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2E51405-F47B-4CD9-BBCD-1948480B3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B4C495-8992-4956-925C-9F31C2F795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7C41F9-179D-4B8E-A771-95DCA60BFC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4AD134B-AC76-4DFA-94F9-D753B8195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778596-FA92-4F64-A743-EF6BBC9345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AB76AD-E1F2-401D-A61B-4A85275341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BB1123-D8F2-422B-ACF6-8FF369B3BD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745963C-F52A-4555-8409-E960414821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B6D21D-1116-489B-A936-C68C6C9AD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074ED0-8BB3-4506-9ECE-A9D917E486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C51D00-379E-4295-B5FD-C6FF04B71B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98269A-7D71-4855-B774-9F535F5DE3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8DD7E99-3CA6-4A7A-8381-174D66921A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798506-ACCF-471F-84C1-A31D0924A2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068AC1-2A29-4FD9-80CF-2E1E6115A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A37690-2727-4943-9033-DBE14C6ECE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A051DEA-5BD4-403B-AFED-AF49AC89B1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0D0BFC-ED18-4C08-B91E-B61580F426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D854F7-D44D-402B-BE53-94AEFB8C7F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40ED885-B800-416F-948A-3C732637D8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A979509-5598-4E85-AF44-79BF83720E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9B5B32-6F46-4B5D-97B3-49AEE55BBC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F886EC-F1BD-40B5-99A0-CA3F509C25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D04036-952B-4C4D-A63E-A02DC566C6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319C25-4C21-4FC0-A0EE-8B5C442D5A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687F40-A5B6-4912-BD7C-4F506F5D8A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1063B7-78FA-4686-B1FB-11513F529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05A6FF-8E13-41CB-ADC2-6D63FBAFF3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F1E4-6F05-401D-BEA5-33B10F2BC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0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ult Perpetra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nipu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users have been characterized as the masters of 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nusual to beg for forgiveness after an abusiv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s and flowers may accompany the statements that they will never “do it”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cessive Rule Ma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must follow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suggests an unequal relationship based on domin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nalty or punishment is attached to the failure to fulfill expec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s for constant attention to the exclusion of friends and family, isolating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user insists on being the only focus of the victim’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forms include demands that the victim must not work or denial of transportation to leave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 isolation increases vulnerability and places rural victims at a disadvantage to obtaining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yles of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iolent styles used by men against women have been ident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rannical Offen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ggression, intimidation, verbal abuse, and physical assault to control and dominate his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loder Offend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s the violence as being out of control, sudden, and explosive, typically in response to partner criticisms, challenge, or purs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igh- Risk Offend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 agree intimate partner battering is a pattern of behavior that follows predictabl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ering in severe cases may be as frequent as 60 times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abuse occurs about 5 times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time in each stage can vary from hours t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nd control wheel used to illustrate the elements of power and contro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Duluth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wo Criteria to Identify High-risk Offende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eria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 initiated three or more instances of violence in the preceding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eria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 threatened a partner with a weapon or verbally threatened to kill the partner; medical treatment was needed; physical abuse of a child occurred; suspect was physically abused as a child; severe violence between the parents; suspect was drunk; drug abuse, extreme dominance, thinks it is okay for a man to hit wife; forced sex; destruction of property; killing or injury to p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Alcohol and Drug 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160" y="1142640"/>
            <a:ext cx="842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have long linked alcohol abuse with male-perpetrated intimate partner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between female offending and substance abuse is less cl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and alcohol are not the cause of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significant relationship between excessive drinking and drug use with violence against intimate partn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is contributory rather than ca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 abuse increases th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Animal Cruel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wed interest in the link between intimate partner violence and animal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against pets is considered to be a predictor of adult violence in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ong predictor of violence against the intimate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atterers use more forms of violence and demonstrate greater use of controlling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in domestic violence shelters were 11 times more likely to report that their partner hurt or killed their p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lice Officers Who Batt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98120" y="1066320"/>
            <a:ext cx="8116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to be at least as common as the genera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physical abuse was approximately 7 percent to 8 percent, contrast to 10 genera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percent to 40 percent of police families experience famil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imate Partner Violence by Police Offic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s the policy and procedures. (IACP,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ilitary Personn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ing due to the unique nature of the milita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of jurisd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families live outside of military instal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incident that occurs off the military is under the jurisdiction of the local civilian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civilian arrest and protection order violation arrest varies by s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artment of Defense has taken a strong proactiv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1993, the rate of nonfatal intimate partner violence has dec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 du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ervices for battere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ization of intimate partner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volvement of law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that have provided sa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of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recognizes health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ive Men  --  Risk fact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ssive and hostile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mpul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n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ciss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communication and soci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e Types of Violent 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75248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nly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horic or borderline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violent or antisocial offender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batterers did not suffer from severe personality dysfunction and good candidates for cognitive-behavioral group therap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Perpetrators of Marital Ra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as an unwanted intercourse or penetration (vaginal, anal, or oral) obtained by force, threat of force, or when the wife is unable to con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the extent of marital rape is compl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e is prohibited by law in all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states still provide exemptions to husb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long-term and severe con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anied by other forms of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Perpetrators of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with a family history of observing and experiencing abuse are more likely to inflict abuse, violence, and sexual aggression during the courtship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onsumption of alcohol increases, the rate of serious injuries associated with dating violence also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have sexually aggressive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nce of dating violence and rape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ive Wo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rates are equal to or greater than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-to-female violence is more harmful than female-to-male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victims more likely to be injured, to require medical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arrested have higher rates of ment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higher levels of vic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victimization tends to be dismiss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male Perpetrators of Physical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re both victims and perpetrators f physical dating violence at the same rate or higher rate than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person may instigate violence, regardless of g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ssault at about the same rate a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fenders Against Older Adul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 children were more likely than spouse to financially ab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use were more likely than adult children to physically ab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 percent of older victims were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’ spouse and adult children were the most likely perpet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abuse are specific crimes to the aging popu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ive Categories of Older Adult Offenders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ed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ed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cissistic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eering or bullying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istic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of Sexual Abuse Against Older Adult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1 percent of cases reported to  APS involve sexual abuse against an older ad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victims aged 50 and older ranged from 2.1 percent to 7 percent of adult sexual victim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ders ranged in age from 13 to 90 years old, largest group between 30 to 39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quarter of the perpetrators were strangers to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group comprised a family m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er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indicate a strong relationship between alcohol and/or drugs and intimate partner abuse committed by men against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association between alcohol use and battering in lesbian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ssion also linked with psychoactive drugs such as barbiturates, amphetamines, opiates, phencyclidine, cocaine, and alcohol cocaine combi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Abusers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ly assessed problematic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ing poor impulse contr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intima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 depend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abandonment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ed ego func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ntal health diagnos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ssive-compulsive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derline personal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-aggressiv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cissistic, and anti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der and A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fenders are men who perpetrate against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VS provides information on the prevalence of the c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are the majority of offend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are the primary vict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e against a spouse, 86% of the offenders are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st a boyfriend or girlfriend, 82% were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rators tend to be between 18 and 35 years old, median age about 3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scriptions of the Batterer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and intim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 crue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rul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ntrolling Behavior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control is due to jealo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rator seeks control over the victim’s time, dress, an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conte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ack of respect for the part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ar and Intimid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through violence or the perception of impending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recall a particular “look” from the offender that serves as a warning signal of an explosion that is about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imal Cruel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s who perpetrate intimate partner violence often abuse the victim’s pet(s) as a means to control and intimidate the surviv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% of battered women in a shelter reported current or past pet ownership and  their partner had threatened and/or actually hurt or killed one or more of their p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45:05Z</dcterms:modified>
  <cp:revision>141</cp:revision>
  <dc:subject/>
  <dc:title>Slide 1</dc:title>
</cp:coreProperties>
</file>